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F84-4460-4F68-9ED6-5DDB73964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0F32-0E3B-41F9-9D7F-10724872A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A0C7-6BB7-4DE3-A56D-6D92141FA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EE1C-9D41-4CD7-A189-45F9F17FE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D60-099D-4B2E-8A48-E44F956CB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DBDB-D03D-4147-8565-01CFEE7CA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F92-77EB-4ADB-9A87-9DC08A1F0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5AAB-5F4D-4CC0-925A-829E4B403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DD5-B6CA-43AE-AF4E-0C58DE85B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3B43-4BA5-482F-B91E-52F39098B7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8E37-61F9-4C7E-9698-A100C96BA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BF6-BE72-42AA-B8A3-0843E34D1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F7A-3295-442C-AD2D-A10391ECD9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1375-D11D-4BBD-8B9D-C3A3EBD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8F58-C9A9-42D6-B2E0-248C8A20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B5F25-7CB6-4980-B8B2-2D6AE617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749C-8E46-4859-9D08-2CF4B9BA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893-9BDD-4BD5-BB98-8A71C5A6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35C-F91E-41F3-A710-1D14A5C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4B1-2415-4555-8C2D-EA7DA579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739D-6B95-46A1-B9E0-9292A614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5F29-202B-4647-A339-B4C5815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22E5-7598-4DF7-9DE6-ABB80879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35F3-74A2-4E8A-8E99-8FD03C7D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26B4-3672-44C1-AD42-C26DBB30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CE7D-1AA6-4326-BC6D-1B6489A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F001-145B-460C-A477-79C64DD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7F4A-EED5-4CF2-93E1-24206106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31E2-84E6-4B74-B4B8-1E7D2B60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BDB1-6743-4E4C-A264-48B5FA5D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20FD-C8A8-45F2-B9D7-53459663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53BC-BDD3-4BC7-AA44-9C6148A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9180-E280-4BF3-BC0F-FAD3ED00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4670-0028-442E-BC01-B0B7F428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AB73-0AC5-4C6C-80A8-B0540C0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D9BB-B9D2-43C8-A505-94EE272B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ACA3-F56B-4B2F-8424-37351ED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BE1B-5DC9-44EF-AAF2-C7F347B6AB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3B9C-A559-4646-B592-DAB8CF08FF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чно – исследовательская работа по те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14520" y="1642680"/>
            <a:ext cx="44672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Малые планеты      солнечн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Линкевич Ю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гимназии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рода Балтий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ч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пушня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рда Анато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G:\100MEDIA\IMG_0747.JPG"/>
          <p:cNvPicPr/>
          <p:nvPr/>
        </p:nvPicPr>
        <p:blipFill>
          <a:blip r:embed="rId1"/>
          <a:stretch/>
        </p:blipFill>
        <p:spPr>
          <a:xfrm>
            <a:off x="928800" y="2071800"/>
            <a:ext cx="2914560" cy="38862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амая «таинственная» план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у иногда называют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одной из самых таин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планет Солнечной систем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отный облачный покров окутывает ее поверх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тмосфера на Венере была открыта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. В. Ломонос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блюд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 июня 1761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хождение Вен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диску Солнца, он заметил, что в начале прохож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гда Венера только небольшой частью нашл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лнечный диск,  возникл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тонкое как волос сияние»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круживш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асть диска планеты, еще не вступившей на солнечный дис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схождении Венеры с диск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появился на краю Солнца пупырь, который тем явственн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учинялся, чем ближе Венера к выхождению приходила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и наблюдения послужили доказательством на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у Ве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[49]"/>
          <p:cNvPicPr/>
          <p:nvPr/>
        </p:nvPicPr>
        <p:blipFill>
          <a:blip r:embed="rId1"/>
          <a:stretch/>
        </p:blipFill>
        <p:spPr>
          <a:xfrm>
            <a:off x="7500960" y="1571760"/>
            <a:ext cx="164304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 и размеры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7692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 тех пор пока для исследований В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лись только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оптические телескоп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авалось измерить лишь верхнюю границу ради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лотного облачного покрова, закрывающего поверх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неры. Появление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радиоинтерференционных методо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зволило перейти к исследованию ее тверд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верх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екторных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5 ± 0,1 к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 верхней границы обла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20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[49]"/>
          <p:cNvPicPr/>
          <p:nvPr/>
        </p:nvPicPr>
        <p:blipFill>
          <a:blip r:embed="rId1"/>
          <a:stretch/>
        </p:blipFill>
        <p:spPr>
          <a:xfrm>
            <a:off x="6500880" y="357120"/>
            <a:ext cx="2286000" cy="21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гура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Фигура планеты близка к сфериче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экваториальной плоскости полу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липс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в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2,02 ± 0,1 км и 6050,99 ± 0,14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ая полуо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51, 54 ± 0,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м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щ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0 ± 120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вердой части Венеры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85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твердой поверхности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ваторе Венеры достиг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6 м/с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i[2]"/>
          <p:cNvPicPr/>
          <p:nvPr/>
        </p:nvPicPr>
        <p:blipFill>
          <a:blip r:embed="rId1"/>
          <a:stretch/>
        </p:blipFill>
        <p:spPr>
          <a:xfrm>
            <a:off x="6227640" y="333360"/>
            <a:ext cx="22878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Ве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Поверхность Венеры преимущ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равнинная, обнаружены и возвыш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области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 из них представляет собой  огром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вулканическое пла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чайшая вершина —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гора Максвел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 высота 12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пад высот вдоль экватора примерно 5 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шая точка на поверхности -на глубине 2,5 км от средн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 поверхности обнаружены кратеры, разломы и друг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знаки протекавших на ней интенсивных тектон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цессов. Отчетливо просматриваются и следы уда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мбардиро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верхность покрыта камнями и плитами разли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ов; поверхностные породы близки по составу к зем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[1]"/>
          <p:cNvPicPr/>
          <p:nvPr/>
        </p:nvPicPr>
        <p:blipFill>
          <a:blip r:embed="rId1"/>
          <a:stretch/>
        </p:blipFill>
        <p:spPr>
          <a:xfrm>
            <a:off x="6215040" y="54936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которые физические и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ие параметры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яя плотнос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0,951 г/с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неры пример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100 ра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вышает массу атмосферы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Преобладающую долю атмосферы составляет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глекислый газ ; азота водяного пара, кислород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В очень малых количествах имеются также примес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O2, H2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CO, HCl, H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лака Венер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т в основн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75-80-процен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ной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центрация водяного пар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ивается с высо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стигая максимума на высоте около 50 км, где она в сто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ше, чем у твердой поверхности, то есть доля пара на э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те приближается к одному процент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вл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00 а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ь газа почти на два поряд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, чем в атмосфере Земл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i[1]"/>
          <p:cNvPicPr/>
          <p:nvPr/>
        </p:nvPicPr>
        <p:blipFill>
          <a:blip r:embed="rId1"/>
          <a:stretch/>
        </p:blipFill>
        <p:spPr>
          <a:xfrm>
            <a:off x="6500880" y="549360"/>
            <a:ext cx="242892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с и его спут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рс, четвертая от Солнца, пла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неч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Марса обращаются два спутника: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об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) 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ейм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ж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б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0 км за 7 ч 39 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м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етает Марс по орбите с радиус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500 км за 30 ч 17 мин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а спутника имеют неправильную форму и всегда обращены к Мар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дной и той же сторон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х максимальные раз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лину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1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ширину у Фобо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у Дейм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равитационные поля спутников настолько слабые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мосферы они не име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поверхности обнаружены метеоритные крат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Фобо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упнейш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тер Стик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диаме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i[14]"/>
          <p:cNvPicPr/>
          <p:nvPr/>
        </p:nvPicPr>
        <p:blipFill>
          <a:blip r:embed="rId1"/>
          <a:stretch/>
        </p:blipFill>
        <p:spPr>
          <a:xfrm>
            <a:off x="6643800" y="2142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Химический состав Марса типичен для планет Земной груп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онечно, существуют и специфические отлич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Здесь такж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исходило раннее перераспределение вещества  п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здействием гравитации, на что указывают сохранившие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леды первичной магматической деятельности. Несмотря,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ительно   низкую  температуру и низкую 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др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рса богато железом и серой  невелико по размер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го радиус порядка 800-1000 км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 масса — около од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есятой всей массы план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яд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одолжалос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коло миллиарда л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пало с периодом раннего вулканизма. Еще такой же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тельности период заняло частичное плавление мантий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ликатов, сопровождавшееся интенсивными вулканическим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ктоническими явл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i[12]"/>
          <p:cNvPicPr/>
          <p:nvPr/>
        </p:nvPicPr>
        <p:blipFill>
          <a:blip r:embed="rId1"/>
          <a:stretch/>
        </p:blipFill>
        <p:spPr>
          <a:xfrm>
            <a:off x="6286680" y="214200"/>
            <a:ext cx="2500200" cy="1928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5646600" y="2003400"/>
            <a:ext cx="184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и внутренне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оение Ма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ло 3 млрд. лет наз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вершилс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период, и еще по крайней ме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чение миллиарда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долж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ктонические процес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же нач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е охлаждение планеты, продолжающее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тия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огащена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ернистым желе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етные количества которого обнаружены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ных поверхностных породах, тогда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металлического жел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метно меньш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на других планетах Земн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Толщина литосферы Марса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— нескольк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отен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включая примерно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00 км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ее к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тмосфера и вода на Марс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тмосфера на Марсе разрежена  и состоит из углекислого газа и малых доба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азота, аргона и кисл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нтрация водяного пара невелика, и она меняется в зависимости от сез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ществование воды на Марсе — один из главных вопросов в изучении этой план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2004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арсоходы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Спирит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Оппортьюнит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казали наличие воды в проб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сианского грунта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сть все основания полагать, что воды на Марсе немал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енности рельефа напоминают выглаженные ледниками уча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удя по хорошей сохранности этих форм, не успевших ни разрушиться, ни покры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ледующими наслоениями, они имеют относительно недавнее происхож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де же теперь марсианская вода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ода существует и сейчас в виде мерзло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есьма низких температурах на поверхности Марса на любой открыт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рхности воды быстро образуется толстая корка льда, которая, через корот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емя заносится пылью и пес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агодаря низкой теплопроводимости льда под его толщей местами мож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таваться и жидкая вода и подледные потоки воды продолжают и теперь углуб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сла некоторых рек, мости льда под его толщей местами может оставатьс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идкая вода и, подледные потоки воды продолжают и теперь углублять рус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которых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584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7,99 млн.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олнца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млн. 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рса вокруг Сол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6,98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ток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скор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битального дви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,13 км/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ваториальный ради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ланеты рав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94 к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—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76,4 км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са Ма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44 1023 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95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i[12]"/>
          <p:cNvPicPr/>
          <p:nvPr/>
        </p:nvPicPr>
        <p:blipFill>
          <a:blip r:embed="rId1"/>
          <a:stretch/>
        </p:blipFill>
        <p:spPr>
          <a:xfrm>
            <a:off x="6500880" y="285840"/>
            <a:ext cx="242892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алые планеты солнечной систе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23640" y="4266720"/>
            <a:ext cx="6867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Меркурий, Венера, Земля, Марс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, размеры и масса Мар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эквато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,76 м/с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днако раз в 15-17 лет происходит так называемое вели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противостояние, когда  эти две планеты сближаются примерно на 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млн. км; последнее такое сближение имело место в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1988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 время великих противостояний Марс выглядит самой яр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вездой на полуночном небе, оранжево-красного цвета, вслед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го его стали считать атрибутом бога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енно новый уровень исследований Марса начался в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196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их целей стали использоваться космические аппараты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ачале облетали планету, а затем и опускались на ее поверх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С име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ественных спутника —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бос и Дейм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 атмосферы: СО2 , N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СО,Н2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Участки поверхности Марса, покрытые кратерами, похожи на лу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матер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05nil042i"/>
          <p:cNvPicPr/>
          <p:nvPr/>
        </p:nvPicPr>
        <p:blipFill>
          <a:blip r:embed="rId1"/>
          <a:stretch/>
        </p:blipFill>
        <p:spPr>
          <a:xfrm>
            <a:off x="5145120" y="3357720"/>
            <a:ext cx="3998880" cy="3240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1571760"/>
            <a:ext cx="8066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, третья от Солнца большая планета Солнеч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даря своим уникальным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единственным во Вселенной природным условиям, Земля стала местом, где возникла и получила развитие органическая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емля движется вокруг Солн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эллиптической орб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ло отличающей от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5083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орма, размеры 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ижение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8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 форме Земля близка к эллипсои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сплюснутому у полюсов и растянутому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экваториальной зо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1,032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56,777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ваториаль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78,160 к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емли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976·1024 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18 кг/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ем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вижется вокруг Солн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 средней скор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765 км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эллипт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9,6 млн. к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иод одного обра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орб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5,24 солнечных су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ащение Зем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круг собственной ос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292115·10-5 рад/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и Зем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10,2 млн. км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рма, размеры и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движение Зем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у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ставляет соответственн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9,2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образу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ше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атериков и остр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а поднимается  над уровнем моря в среднем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75 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ьшая высот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848 м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Горы занимают свыш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1/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рхности суши. Пустыни покрывают около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ши, саванны и редколесья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са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%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ледники 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ыш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уши занято под сельскохозяйственными угодь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У Земли имеется единственный спутник — Лу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6600"/>
                </a:solidFill>
                <a:latin typeface="Arial"/>
              </a:rPr>
              <a:t>Ее орбита близка к окружности с радиусом около 384400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овременным космогон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ям Земля образо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6-4,7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из захвач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тяжением Солн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опланетного обл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,5 млрд. лет наз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озникли условия, благоприятные дл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зникновения жи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05nil042i"/>
          <p:cNvPicPr/>
          <p:nvPr/>
        </p:nvPicPr>
        <p:blipFill>
          <a:blip r:embed="rId1"/>
          <a:stretch/>
        </p:blipFill>
        <p:spPr>
          <a:xfrm>
            <a:off x="6072120" y="357120"/>
            <a:ext cx="258768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075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ную роль в исследовании внутреннего строения Земли играют сейсмические мет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основанные на исследовании распространения в ее толще упругих волн, возникающих при сейс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обытиях — при естественных землетрясениях и в результате взрыв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я условно разделяют на три област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ра, мантия и 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слой —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ко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имеет среднюю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5 км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типы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земной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континентальный и океанический; в переходной зоне от материка к оке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а кора промежуточного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лщина ко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еняется в довольно широких пределах: океаническая кора имеет толщину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е плотности составля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поверхности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6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грани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85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 базаль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глубину примерно от 35 до 2885 км простирается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мант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тделяется от коры резкой границей глубже, которой скорости как продольных, так и попере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угих сейсмических волн, а также механическая плотность скачкообразно возрастаю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лотности 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величиваются по мере возрастания глубины примерно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,3 до 9,7 г/см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кор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 мант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обширные литосферные плиты влияющий на облик Зем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жидким. По современным представлениям внешне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дро состои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 серы и желез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с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12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йсмические методы обнаруживают наличие твердого внутреннего ядра,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ю которого приходи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7% массы Зем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центральной части Земли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500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ксимальная 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приближается к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0 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инимальная составля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-90 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Плотность в центре Земли около </a:t>
            </a:r>
            <a:r>
              <a:rPr b="0" i="1" lang="ru-RU" sz="1400" spc="-1" strike="noStrike">
                <a:solidFill>
                  <a:srgbClr val="3333ff"/>
                </a:solidFill>
                <a:latin typeface="Arial"/>
              </a:rPr>
              <a:t>12,5 г/см3</a:t>
            </a:r>
            <a:r>
              <a:rPr b="1" i="1" lang="ru-RU" sz="1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 поверхностью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Земля окружена атм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жний ее сл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стирается в среднем до высоты 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км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мпература в тропосфере падает с увеличением вы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й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55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трат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здесь температура возрастает с увелич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ты. Выше находится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мез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ад которой наблюдаются серебристые обла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омное значение имеет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зо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слой озона, находящийся на высоте о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ь выш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-8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ю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ионосфер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томы и молекулы в этом слое интенсивно ионизируются под действием солнеч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диации, ультрафиолетового излучения. Если бы не озоновый слой, потоки изл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ходили бы до поверхности Земли, производя разрушения в имеющихся там жи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рганизм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 расстояниях более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1000 км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газ настолько разрежен, что столкновения между молекул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ерестают играть существенную роль, а атомы ионизированы более чем наполов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ысоте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6 и 3,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диусов Земли находятся радиационные поя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витационное поле Земли с высокой точностью описывается законом всемирного тягот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ьютона. Земля обладает также магнитным и электрическим по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гнитное поле над поверхностью Земли складывается из постоянной«главной» и перем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ей; последнюю обычно относят к вариациям магнитного поля. Главное магнитное поле име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у, близкую к дипольно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ый дипольный момен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емли, равн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98·1025 един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Г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яженности магнитного по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северном и южном магнитных полюсах рав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58 и 0,68 Э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на геомагнитном экваторе — около 0,4 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над поверхностью Земли в среднем имеет напряженность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В/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о вертикально вниз — это так называемое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ясной погоды»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о это поле испыты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чительные вари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у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Естественный спутник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стоянии 384 400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орбиты к плоскости эклиптики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 °8 ¢43 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,35 .1022 к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радиус Луны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38 к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,62 м/с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лотность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343 кг/м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ер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,3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одически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9,5 су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Светит отраженным солнечным светом, визуальное сферическое альбедо </a:t>
            </a: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0,75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Поверхность Луны в основном гориста, покрыта многочисленными крат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ff"/>
                </a:solidFill>
                <a:latin typeface="Arial"/>
              </a:rPr>
              <a:t>ударного происхожд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нный грунт — регол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оверхности Л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-400 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гнитное поле £ 4 га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Первый человек ступил на поверхность Луны 21 июля 196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l_533i"/>
          <p:cNvPicPr/>
          <p:nvPr/>
        </p:nvPicPr>
        <p:blipFill>
          <a:blip r:embed="rId1"/>
          <a:stretch/>
        </p:blipFill>
        <p:spPr>
          <a:xfrm>
            <a:off x="5715000" y="260280"/>
            <a:ext cx="300528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ерхность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Луне даже невооруженным глазом различимы темны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носительно ровные участки, называемые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орям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разделяющие их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етлые —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материки»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«континенты»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долю послед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ходится немногим бол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лощади поверхности Лу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рхность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териков» гориста, ее уровень выше, чем у «морей»,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ность средних высот достига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3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ровень в круговых «морях»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йонах несколько повышенной плотности лунной породы обычн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на километр ниже, чем у «морей» неправильной формы и уступает 4 к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й высоте «материков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Поверхность Луны покрыта большим числом кольцевых структур — кольце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горами и кратерами ударного происхо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Видимые на поверхности линейные структуры — борозд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разломы и складки — являются свидетельствами тектонических процесс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_536i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ижение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6518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Луна движется вокруг Земли по почти эллиптической орбите со средней линей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скоростью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683 км/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нимальное расстоя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 Земл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33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ксимально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5500 к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скость ор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наклонена к плоскости эклиптики на уго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°08'43'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рбитального движ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,32166 земных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что совпадает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периодом осевого обращения Луны, благодаря этому Луна всегда обращена 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Земле одним и тем же полушари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з-за того что движение Луны по орбите не является равномерным, а также из-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клона плоскости экватора к плоскости ее орбиты, с Земли можно наблюд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сколько более чем половину поверх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Лу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Луны относительно Солнца 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,53 сут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ый ден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унная ноч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лятся почти п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суто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течение лунного дня поверхность Луны нагревается, а ночью охлаждает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этом температура на поверхности Луны меняется от 400 до 100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еркурий, ближайшая к Солн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большая планета Солнечной систем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араметры движения плане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ее 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Солнц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,387 астроном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иц (58 млн. км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об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88 су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од вра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8,6 сут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 ди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4878 к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са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3,3·1023 кг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айне разрежена и состоит из 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r, Ne, 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Поверхность Меркурия по внешнему виду  подобна лунной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ht69(1)[1]"/>
          <p:cNvPicPr/>
          <p:nvPr/>
        </p:nvPicPr>
        <p:blipFill>
          <a:blip r:embed="rId1"/>
          <a:stretch/>
        </p:blipFill>
        <p:spPr>
          <a:xfrm>
            <a:off x="6659640" y="260280"/>
            <a:ext cx="2232000" cy="21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оение и состав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3628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тность лунных пород составляет в среднем 3,343 г/см3, что заметно уступ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ней плотности для Земли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меются и различия в минералогическом составе лунных и земных пород: содерж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ксидов уплотнение вещества с глубиной проявляется на Земле значительно заметне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м на железа в лунных базальтах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5%,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а титана — н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выше, чем в зем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орские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 на Луне отличаются повышенным содержанием оксидов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алюми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каль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тносительно более высокой плотностью, что связывают с их глубин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ждением.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ля исследования строения Луны использ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сейсмические мет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ностный слой — лунная кора имеет состав, близкий к составу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«материков»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корой располагается верхняя мантия — слой толщиной око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глубже — средняя мантия толщиной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м слое в результате частичного вплавления формировалис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«морские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ль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ах порядк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600-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полагаются глубокофокусные лунные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ейсмические очаг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лубине око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80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ончается литосфера и начинается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лунная астеносф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лавленный слой, в котором, могут распространяться только продольные сейсм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ны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рхней части астеносферы порядк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00 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 глуби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80-1570 к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исходит резкое изменение скорости продольных волн — зд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ходит граница пятой зоны — ядра Луны. Поверхностный довольно рыхлый слой Лу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стоит из пород, раздробленных постоянным потоком падающих на нее твердых тел —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икрометеоритов и пыли до крупных частиц — многотонных метеоритов и астероид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 поверхностью Луны газовая атмосфера как таковая отсутствует, так как не 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ерживаться Луной вследствие ее малой массы.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В результате даже легчайшие атомы п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редних тепловых скоростях способны преодолевать притяжение Лун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поля Лу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Наиболее тщательно исследовалось гравитационное поле Луны, что объясняется не тольк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требностями космонавтики, но и дает важную информацию об особенностях строения Лу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и исследования выявили нецентральность гравитационного поля, обусловле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днородностью плотности не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корение силы тяже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поверхности Луны составил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,623 м/с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гнитное пол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уны является весьма </a:t>
            </a: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лаб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составля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гнитного поля Зем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ическое поле у поверхности Луны не измерялось, но существуют теоре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казания на то, что из-за значительного приливного воздействия со стороны Земли вну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ны должно произойти перераспределение электрических зарядов, приводящее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нию над ее поверхностью электрического поля с напряженностью в некоторых точк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ядка киловольта на мет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уна светит отраженным солнечным светом; визуальное сферическое альбедо равн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0,075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 есть Луна отражает все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адающих на нее солнечных световых луч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Отражение падающего от внешнего источника света довольно заметно преобладает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направлении к этому источнику; по этой причине Луна ярче всего в полнолу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Собственное тепловое излучение Луны незначи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и ракет на Лу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2 января 1959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в СССР было осуществлен запуск первой в мире автоматическ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жпланетной станции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Луна– 1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ссой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1472 к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пролетела вблиз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ы на расстоянии меньше 6000 км от её поверхности и, выйд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елиоцентрическую орбиту, стала первой в мире искусственной планет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лнечной систем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Сентябрь 1959 г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стоялся новый старт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–2 » .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чта фантастов сбылась: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зданный человеком аппарат впервые достиг другого небесного тел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октябре 1959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космическое путешествие отправился следую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унник –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 3 »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явились первые фотографии обратной стороны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сент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 -16 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овершила мягкую посадку в район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оря Изобилия, произвела и взятие образцов гру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ноябре 1970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17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на её поверхность передвижно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1 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феврале 1972 г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 экспедицию на Луну отправился следующий космическ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ппарат -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0»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Эта станция доставила на Землю образец лунного грунта и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руднодоступного горного райо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В 1973 г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 станция </a:t>
            </a:r>
            <a:r>
              <a:rPr b="1" lang="ru-RU" sz="1500" spc="-1" strike="noStrike">
                <a:solidFill>
                  <a:srgbClr val="3333ff"/>
                </a:solidFill>
                <a:latin typeface="Arial"/>
              </a:rPr>
              <a:t>« Луна – 21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доставила внутрь кратера Лемонье у восточ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аницы Моря  Ясности </a:t>
            </a:r>
            <a:r>
              <a:rPr b="1" lang="ru-RU" sz="1500" spc="-1" strike="noStrike">
                <a:solidFill>
                  <a:srgbClr val="ff6600"/>
                </a:solidFill>
                <a:latin typeface="Arial"/>
              </a:rPr>
              <a:t>« Луноход – 2 »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.Возникли панорамы нашей Лу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ёты по программ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Аполло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летательным аппаратом, доставившим челове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хность Луны, был американский космический кораб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« Аполлон – 11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ёт состоялся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6 июля 1969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В кабинете кораб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лись 3 астронавт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. Армстронг Н. Армстронг, М. Коллин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Э. Олдр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1 июля в 5ч 56мин на поверхность Луны вступил первый челове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Армстронг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ем к нему присоединился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Олдр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оставили на Луне телевизионные и фотокамеры, инстр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бора лунных камней, ранцевые системы жизнеобеспечени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угое снаря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Н. Армстронг: « Из лунной кабины небо казалось черным, но на Луне было светло, как днём, и поверхность её была рыжевато-коричневой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l_536i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Это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интересно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Чело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весивший на Земле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80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у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сить на Луне около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0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Попав на Луну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хранив свою мускульную силу, он с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ть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ше или дальше, чем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е, поднимать тяжести,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в 6 ра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большие, 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ыгая с высоты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5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причинять себе вре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 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62000"/>
            <a:ext cx="882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Меркурий движется вокруг Солнца по си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вытянутой эллиптической орб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олжительность солнечных сут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а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Меркурия от Зем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2 до 217 млн.к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няя скорость дви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круг Солнца 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7,89 км/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На Меркурии распределение масс не является ст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концентрическим</a:t>
            </a:r>
            <a:r>
              <a:rPr b="0" i="1" lang="ru-RU" sz="20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ращение вокруг Солнца и его собственное в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одят к тому, что длительность солнечных суток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ланете равна трем звездным меркурианским суткам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вум меркурианским годам и со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75,92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erkuri[1]"/>
          <p:cNvPicPr/>
          <p:nvPr/>
        </p:nvPicPr>
        <p:blipFill>
          <a:blip r:embed="rId1"/>
          <a:stretch/>
        </p:blipFill>
        <p:spPr>
          <a:xfrm>
            <a:off x="6588000" y="476280"/>
            <a:ext cx="23529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азмеры, форма и масса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По форме  планета близка к шару с экваториа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радиусом (2440 ± 2)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8 р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м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      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,8 раз мен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у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плот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составляет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44 г/см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близи поверхност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,7 м/с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ность полуос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экваториального эллипса 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клонения геометрического центра планеты от цен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сс — порядка полутора километр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[24]"/>
          <p:cNvPicPr/>
          <p:nvPr/>
        </p:nvPicPr>
        <p:blipFill>
          <a:blip r:embed="rId1"/>
          <a:stretch/>
        </p:blipFill>
        <p:spPr>
          <a:xfrm>
            <a:off x="6786720" y="571680"/>
            <a:ext cx="1979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91908E-006 C -0.01336 -0.2874 -0.02656 -0.5748 -0.02222 -0.57087 C -0.01788 -0.56694 0.01841 -0.07006 0.02552 0.02335 C 0.03264 0.11676 0.02084 -0.01203 0.02066 -0.01064 C 0.02049 -0.00925 0.02223 0.01109 0.02396 0.03167 E">
                                      <p:cBhvr>
                                        <p:cTn id="8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мпература и рельеф    поверхности Мерку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8996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Arial"/>
              </a:rPr>
              <a:t>Меркурий получает от центрального светила значительно большое количество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Из-за вытянутости орбиты поток энергии от Солнца варьируется примерно в два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ольшая продолжительность дня и ночи приводит к тому, что проявляются яркостные температуры на «дневной» и на «ночной» сторонах поверхности Меркурия (температура может изменяться примерно от 600 К до 100 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Поверхность Меркурия, покрытая раздробленным веществом базальтового типа, довольно темна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наблюдениям с Земли, поверхность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еркур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целом похожа на поверхность Луны, хотя контраст между темными и светлыми участками выражен слабее. Наряду с кратерами есть холмы и до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[33]"/>
          <p:cNvPicPr/>
          <p:nvPr/>
        </p:nvPicPr>
        <p:blipFill>
          <a:blip r:embed="rId1"/>
          <a:stretch/>
        </p:blipFill>
        <p:spPr>
          <a:xfrm>
            <a:off x="6443640" y="333360"/>
            <a:ext cx="244800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мосфера и физические п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д поверхностью Меркурия имеются следы весьма разреж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тмосферы, содержащей гелий, водород,  углекислый газ, углеро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ислород и благород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Близость Солнца обусловливает ощутимое влияние на Мерку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солнечного ветра. Благодаря этой близости воздействие Солнц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Меркурий, должно приводить к возникновению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ланеты электрического поля, напряженность которого може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примерно вдвое больше, чем у  «поля ясной погоды» над поверх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Земли, и отличается от последнего сравнительной стаби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 Меркурии имеется  магнитное по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[35]"/>
          <p:cNvPicPr/>
          <p:nvPr/>
        </p:nvPicPr>
        <p:blipFill>
          <a:blip r:embed="rId1"/>
          <a:stretch/>
        </p:blipFill>
        <p:spPr>
          <a:xfrm>
            <a:off x="6804000" y="189000"/>
            <a:ext cx="216072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686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Венера, вторая от Солнца и ближайшая  к Земле большая 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Солнеч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метры движения план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расстояние от Солнца 0,72 а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обращения        224,7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ения                243 сут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радиус     6050 к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а       4,9 . 1024 к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а: CO2 (97%), N2 (ок. 3%), H2O (0,05%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си CO, SO2, HCl, H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ература у поверхности    750 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вление 107 П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На поверхности Венеры обнаружены горы, кратеры,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Поверхностные породы Венеры близки по составу к земным осадочным поро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тмосфера почти целиком состоит из углекислого газа (около 96%), а азота 3,2%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[4]"/>
          <p:cNvPicPr/>
          <p:nvPr/>
        </p:nvPicPr>
        <p:blipFill>
          <a:blip r:embed="rId1"/>
          <a:stretch/>
        </p:blipFill>
        <p:spPr>
          <a:xfrm>
            <a:off x="6588000" y="2421000"/>
            <a:ext cx="2202120" cy="220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ла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979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Венера движется вокруг Солнца по орби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располагающейся между орбитами Меркурия 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енера — единственная планета Солнечной системы, 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ращение которой противоположно направлению ее обращения вокруг 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иод собственного вращения близок к 243 земным сут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-за  «обратного» направления вращения Венеры длительность солнечных суток на ней в 116,8 раз больше, чем на Земле, так что за один  венерианский год восход и заход Солнца на Венере происходит всего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е от Венеры до Земли изменяется от 38 млн. км до 258 млн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скорость движения по орбите 34,99 к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енера — наиболее яркое светило земного не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максимуме блеска она достигает -4,4 звездной вел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[32]"/>
          <p:cNvPicPr/>
          <p:nvPr/>
        </p:nvPicPr>
        <p:blipFill>
          <a:blip r:embed="rId1"/>
          <a:stretch/>
        </p:blipFill>
        <p:spPr>
          <a:xfrm>
            <a:off x="6858000" y="260280"/>
            <a:ext cx="1604880" cy="19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10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0:13:09Z</dcterms:created>
  <dc:creator>саша</dc:creator>
  <dc:description/>
  <dc:language>en-US</dc:language>
  <cp:lastModifiedBy>Name</cp:lastModifiedBy>
  <dcterms:modified xsi:type="dcterms:W3CDTF">2010-09-23T12:06:05Z</dcterms:modified>
  <cp:revision>31</cp:revision>
  <dc:subject/>
  <dc:title>Малые план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7000000000001024140</vt:lpwstr>
  </property>
</Properties>
</file>